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5A1-C486-4E31-B5F8-A6F48872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9EC-FDE2-4DF3-9C73-0B5DCCAD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269-2719-416A-AF27-20FBFB22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EC6-8F12-49DC-A104-FF957BC3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1A0-347A-4BBA-B987-0A1BCB42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492-4DD2-4CEE-A715-DD8AD9AF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549-1884-40B9-BFC7-112C9347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C0B-A218-4A08-9AA6-6F422BEF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F6E-7132-4065-8B7C-0C314225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3C0-C83F-4DCA-960C-8157CD59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FE5-9C56-410A-B5FA-925B4036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A08-9739-4E4D-838F-F9EE2C8A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FC4B-D071-41C1-B28D-13A6E6574FDA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12AF-A145-4354-8BC7-5B955CB159EC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70520" y="0"/>
            <a:ext cx="4173480" cy="636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3467160" cy="1549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30120" y="3486240"/>
            <a:ext cx="416556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7ni2a.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600200"/>
            <a:ext cx="9144000" cy="13737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frame_title N2+ file b MCD -1- minus 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addlines operator -1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spectrum operator 1- scale -1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93356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19920" y="350532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F       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03120" y="685800"/>
            <a:ext cx="216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3480" y="6858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5736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1581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03120" y="685800"/>
            <a:ext cx="216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7160" y="681120"/>
            <a:ext cx="241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-pol 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760" y="3657600"/>
            <a:ext cx="220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ft 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98560" y="3657600"/>
            <a:ext cx="254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ight 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0574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2690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6280" y="53352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+ cryst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26280" y="3505320"/>
            <a:ext cx="246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+ cryst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382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1675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 with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38440" y="53352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i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22440" y="358128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iO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019400" cy="5543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470560" y="762120"/>
            <a:ext cx="3673440" cy="56005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 in Ni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821120" cy="63244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 in Mn ox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rcRect l="12845" t="63375" r="12845" b="10696"/>
          <a:stretch/>
        </p:blipFill>
        <p:spPr>
          <a:xfrm>
            <a:off x="5181480" y="3989520"/>
            <a:ext cx="3962520" cy="2392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685800"/>
            <a:ext cx="91440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the rcg, rac, ban and plo files of als6ni2x1 to exct1 (or any other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the calculation from Ni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to Mn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3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Start by making the rcn-files for Mn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and Mn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s. Run TTRCN on them and replace the Ni parameters in the rcg-file with the Mn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Run TTRCG, TTRAC and TTBAN on the Mn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Plot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exct1.ban in order to calcu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pure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pure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spectrum of LaMnO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Verdan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ercise: Charge Transfer on Mn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3+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7176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73760" y="457200"/>
            <a:ext cx="4170240" cy="5924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840" y="685800"/>
            <a:ext cx="22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2+: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66ff33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201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8160" y="36781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C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4920" y="6858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32120" y="609480"/>
            <a:ext cx="1489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5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3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35053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0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8160" y="36781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C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4920" y="6858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32120" y="609480"/>
            <a:ext cx="1489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5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3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3000" y="35053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7200"/>
            <a:ext cx="9144000" cy="2590920"/>
          </a:xfrm>
          <a:prstGeom prst="rect">
            <a:avLst/>
          </a:prstGeom>
          <a:solidFill>
            <a:srgbClr val="e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609480"/>
            <a:ext cx="9143640" cy="2401560"/>
            <a:chOff x="0" y="609480"/>
            <a:chExt cx="9143640" cy="2401560"/>
          </a:xfrm>
        </p:grpSpPr>
        <p:grpSp>
          <p:nvGrpSpPr>
            <p:cNvPr id="117" name=""/>
            <p:cNvGrpSpPr/>
            <p:nvPr/>
          </p:nvGrpSpPr>
          <p:grpSpPr>
            <a:xfrm>
              <a:off x="6840" y="615240"/>
              <a:ext cx="9128160" cy="2388960"/>
              <a:chOff x="6840" y="615240"/>
              <a:chExt cx="9128160" cy="23889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6840" y="615240"/>
                <a:ext cx="1825560" cy="821880"/>
                <a:chOff x="6840" y="615240"/>
                <a:chExt cx="1825560" cy="8218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0908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84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832760" y="615240"/>
                <a:ext cx="1824840" cy="821880"/>
                <a:chOff x="1832760" y="615240"/>
                <a:chExt cx="1824840" cy="8218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934280" y="615240"/>
                  <a:ext cx="162108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832760" y="615240"/>
                  <a:ext cx="182484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658320" y="615240"/>
                <a:ext cx="1825560" cy="821880"/>
                <a:chOff x="3658320" y="615240"/>
                <a:chExt cx="1825560" cy="8218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76056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65832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5484240" y="615240"/>
                <a:ext cx="1825560" cy="821880"/>
                <a:chOff x="5484240" y="615240"/>
                <a:chExt cx="1825560" cy="821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58648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XA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48424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310160" y="615240"/>
                <a:ext cx="1824840" cy="821880"/>
                <a:chOff x="7310160" y="615240"/>
                <a:chExt cx="1824840" cy="821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411680" y="615240"/>
                  <a:ext cx="162108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MC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310160" y="615240"/>
                  <a:ext cx="182484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840" y="1437480"/>
                <a:ext cx="1825560" cy="783000"/>
                <a:chOff x="6840" y="1437480"/>
                <a:chExt cx="1825560" cy="7830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908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L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84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832760" y="1437480"/>
                <a:ext cx="1824840" cy="783000"/>
                <a:chOff x="1832760" y="1437480"/>
                <a:chExt cx="1824840" cy="7830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934280" y="1437480"/>
                  <a:ext cx="162108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3 (*R</a:t>
                  </a:r>
                  <a:r>
                    <a:rPr b="1" lang="en-US" sz="2400" spc="-1" strike="noStrike" baseline="30000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/9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832760" y="1437480"/>
                  <a:ext cx="182484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658320" y="1437480"/>
                <a:ext cx="1825560" cy="783000"/>
                <a:chOff x="3658320" y="1437480"/>
                <a:chExt cx="1825560" cy="7830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76056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5832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484240" y="1437480"/>
                <a:ext cx="1825560" cy="783000"/>
                <a:chOff x="5484240" y="1437480"/>
                <a:chExt cx="1825560" cy="7830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58648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424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310160" y="1437480"/>
                <a:ext cx="1824840" cy="783000"/>
                <a:chOff x="7310160" y="1437480"/>
                <a:chExt cx="1824840" cy="7830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411680" y="1437480"/>
                  <a:ext cx="162108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10160" y="1437480"/>
                  <a:ext cx="182484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840" y="2220840"/>
                <a:ext cx="1825560" cy="783360"/>
                <a:chOff x="6840" y="2220840"/>
                <a:chExt cx="1825560" cy="7833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908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L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84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832760" y="2220840"/>
                <a:ext cx="1824840" cy="783360"/>
                <a:chOff x="1832760" y="2220840"/>
                <a:chExt cx="1824840" cy="783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934280" y="2220840"/>
                  <a:ext cx="162108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832760" y="2220840"/>
                  <a:ext cx="182484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658320" y="2220840"/>
                <a:ext cx="1825560" cy="783360"/>
                <a:chOff x="3658320" y="2220840"/>
                <a:chExt cx="1825560" cy="783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76056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65832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484240" y="2220840"/>
                <a:ext cx="1825560" cy="783360"/>
                <a:chOff x="5484240" y="2220840"/>
                <a:chExt cx="1825560" cy="783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58648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48424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310160" y="2220840"/>
                <a:ext cx="1824840" cy="783360"/>
                <a:chOff x="7310160" y="2220840"/>
                <a:chExt cx="1824840" cy="7833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411680" y="2220840"/>
                  <a:ext cx="162108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310160" y="2220840"/>
                  <a:ext cx="182484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0" y="609480"/>
              <a:ext cx="9143640" cy="240156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4920" y="6858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32120" y="609480"/>
            <a:ext cx="1489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5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3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52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3d spin-orbit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multi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57200"/>
            <a:ext cx="9144000" cy="2590920"/>
          </a:xfrm>
          <a:prstGeom prst="rect">
            <a:avLst/>
          </a:prstGeom>
          <a:solidFill>
            <a:srgbClr val="e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609480"/>
            <a:ext cx="9143640" cy="2401560"/>
            <a:chOff x="0" y="609480"/>
            <a:chExt cx="9143640" cy="2401560"/>
          </a:xfrm>
        </p:grpSpPr>
        <p:grpSp>
          <p:nvGrpSpPr>
            <p:cNvPr id="172" name=""/>
            <p:cNvGrpSpPr/>
            <p:nvPr/>
          </p:nvGrpSpPr>
          <p:grpSpPr>
            <a:xfrm>
              <a:off x="6840" y="615240"/>
              <a:ext cx="9128160" cy="2388960"/>
              <a:chOff x="6840" y="615240"/>
              <a:chExt cx="9128160" cy="23889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6840" y="615240"/>
                <a:ext cx="1825560" cy="821880"/>
                <a:chOff x="6840" y="615240"/>
                <a:chExt cx="1825560" cy="8218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0908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84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832760" y="615240"/>
                <a:ext cx="1824840" cy="821880"/>
                <a:chOff x="1832760" y="615240"/>
                <a:chExt cx="1824840" cy="8218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934280" y="615240"/>
                  <a:ext cx="162108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32760" y="615240"/>
                  <a:ext cx="182484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658320" y="615240"/>
                <a:ext cx="1825560" cy="821880"/>
                <a:chOff x="3658320" y="615240"/>
                <a:chExt cx="1825560" cy="8218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76056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65832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484240" y="615240"/>
                <a:ext cx="1825560" cy="821880"/>
                <a:chOff x="5484240" y="615240"/>
                <a:chExt cx="1825560" cy="8218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58648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XA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48424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310160" y="615240"/>
                <a:ext cx="1824840" cy="821880"/>
                <a:chOff x="7310160" y="615240"/>
                <a:chExt cx="1824840" cy="8218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411680" y="615240"/>
                  <a:ext cx="162108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MC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10160" y="615240"/>
                  <a:ext cx="182484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6840" y="1437480"/>
                <a:ext cx="1825560" cy="783000"/>
                <a:chOff x="6840" y="1437480"/>
                <a:chExt cx="1825560" cy="783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0908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L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84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832760" y="1437480"/>
                <a:ext cx="1824840" cy="783000"/>
                <a:chOff x="1832760" y="1437480"/>
                <a:chExt cx="1824840" cy="783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34280" y="1437480"/>
                  <a:ext cx="162108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3 (*R</a:t>
                  </a:r>
                  <a:r>
                    <a:rPr b="1" lang="en-US" sz="2400" spc="-1" strike="noStrike" baseline="30000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/9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832760" y="1437480"/>
                  <a:ext cx="182484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658320" y="1437480"/>
                <a:ext cx="1825560" cy="783000"/>
                <a:chOff x="3658320" y="1437480"/>
                <a:chExt cx="1825560" cy="783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6056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65832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484240" y="1437480"/>
                <a:ext cx="1825560" cy="783000"/>
                <a:chOff x="5484240" y="1437480"/>
                <a:chExt cx="1825560" cy="783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58648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8424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310160" y="1437480"/>
                <a:ext cx="1824840" cy="783000"/>
                <a:chOff x="7310160" y="1437480"/>
                <a:chExt cx="1824840" cy="783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411680" y="1437480"/>
                  <a:ext cx="162108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10160" y="1437480"/>
                  <a:ext cx="182484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840" y="2220840"/>
                <a:ext cx="1825560" cy="783360"/>
                <a:chOff x="6840" y="2220840"/>
                <a:chExt cx="1825560" cy="7833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0908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L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84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832760" y="2220840"/>
                <a:ext cx="1824840" cy="783360"/>
                <a:chOff x="1832760" y="2220840"/>
                <a:chExt cx="1824840" cy="7833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934280" y="2220840"/>
                  <a:ext cx="162108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832760" y="2220840"/>
                  <a:ext cx="182484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658320" y="2220840"/>
                <a:ext cx="1825560" cy="783360"/>
                <a:chOff x="3658320" y="2220840"/>
                <a:chExt cx="1825560" cy="7833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76056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65832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484240" y="2220840"/>
                <a:ext cx="1825560" cy="783360"/>
                <a:chOff x="5484240" y="2220840"/>
                <a:chExt cx="1825560" cy="7833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58648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48424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7310160" y="2220840"/>
                <a:ext cx="1824840" cy="783360"/>
                <a:chOff x="7310160" y="2220840"/>
                <a:chExt cx="1824840" cy="7833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7411680" y="2220840"/>
                  <a:ext cx="162108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310160" y="2220840"/>
                  <a:ext cx="182484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" name=""/>
            <p:cNvSpPr/>
            <p:nvPr/>
          </p:nvSpPr>
          <p:spPr>
            <a:xfrm>
              <a:off x="0" y="609480"/>
              <a:ext cx="9143640" cy="240156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6151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382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382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99320" y="60948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3280" y="6094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C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99360" y="365760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+ cryst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06960" y="358128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7ni2a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600200"/>
            <a:ext cx="12420720" cy="703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0             14    2    4    1    1  INTER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shell03000000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spin03000000 orbit03000000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Add spin03 and orbit03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609480"/>
            <a:ext cx="9144000" cy="105055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% vertical 1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utler O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D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C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end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HAMILTONIAN ground  PRINTE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HAMILT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0+ &gt; 0 0+ &gt; 0+    &gt; 0+  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SHEL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4+ &gt; 0 0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4+ &gt; 0 2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2+ &gt; 0 2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SP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1+ &gt; 0 1+ &gt; ^0+   &gt; 0+  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ORB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1+ &gt; 0 1+ &gt; ^0+   &gt; 0+   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HAMILTONIAN excite  PRINTE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HAMILTON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0+ &gt; 0 0+ &gt; 0+    &gt; 0+  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SHEL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4+ &gt; 0 0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4+ &gt; 0 2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2+ &gt; 0 2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SP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1+ &gt; 0 1+ &gt; ^0+   &gt; 0+   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ORB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1+ &gt; 0 1+ &gt; ^0+   &gt; 0+  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1- left        transi PRINTTRA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MULTI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 1- &gt; 0 1- &gt;  1- &gt;  1-  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-1- right       transi PRINTTRA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MULTI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 1- &gt; 0 1- &gt;  1- &gt; -1-  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- parallel    transi PRINTTRA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MULTI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 1- &gt; 0 1- &gt; ^0- &gt;  0-  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7ni2a.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-4572000"/>
            <a:ext cx="9144000" cy="110595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% vertical 1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utler O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D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C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end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HAMILTONIAN ground  PRINTE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HAMILT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0+ &gt; 0 0+ &gt; 0+    &gt; 0+  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SHEL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4+ &gt; 0 0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4+ &gt; 0 2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2+ &gt; 0 2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SP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1+ &gt; 0 1+ &gt; ^0+   &gt; 0+  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ORB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1+ &gt; 0 1+ &gt; ^0+   &gt; 0+   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HAMILTONIAN excite  PRINTE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HAMILTON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0+ &gt; 0 0+ &gt; 0+    &gt; 0+  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SHEL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4+ &gt; 0 0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4+ &gt; 0 2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2+ &gt; 0 2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SP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1+ &gt; 0 1+ &gt; ^0+   &gt; 0+   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ORB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1+ &gt; 0 1+ &gt; ^0+   &gt; 0+  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1- left        transi PRINTTR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1- &gt; 0 1- &gt;  1- &gt;  1-  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-1- right       transi PRINTTR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1- &gt; 0 1- &gt;  1- &gt; -1-  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- parallel    transi PRINTTR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1- &gt; 0 1- &gt; ^0- &gt;  0-  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7ni2a.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Groot113</cp:lastModifiedBy>
  <cp:lastPrinted>2000-09-25T15:41:05Z</cp:lastPrinted>
  <dcterms:modified xsi:type="dcterms:W3CDTF">2007-02-13T22:07:30Z</dcterms:modified>
  <cp:revision>275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